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98C2-F87B-4666-96CA-8931B41D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CCCF-5DF8-402C-ACD5-2A991C0F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3BDC-369E-488A-91B6-02B71AC2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E417-1817-4A37-9D47-77B34097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963C-9212-4259-AE6D-7010B0FB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4A9C-2A76-44B5-B060-01FBC4D4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9F0D-4AB4-4A3D-B772-C7FD9451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2BDB-C565-4EC0-9C48-BCE15000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6E30-1042-4F8F-86BD-25860194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D543-4D66-4E18-A3D5-FB249C18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015-9494-4C0A-860A-D60F45DC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618C-9D5F-4A84-AD51-7F8A2D59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1E3F-F97F-4F2F-8AE5-16A23D6FC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ICo Design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CE 3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nneth Be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n Com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ick Lums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U Func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rror Adder/Subtr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ination of both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ilizes mode 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overflow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xor-based shi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ilizes multiple supply vol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s modified comparato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arator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-defined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user to select greater or lesser input to 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s equal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for greater versatility of DSP in datapath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al bran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ro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arator Schema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ign Metric Minimization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rror adder sizing (focus of desig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benefit: 12.5ns to 9.5ns (42% quadratic decrease from ripple carry desig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xor based shi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de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buffers at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ation adder/subtr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652µ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rategy (Con’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bits via PMOS, NMOS single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bits via transmissi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ric = T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 A * P, where P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T * C * Vdd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gives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Arial"/>
              </a:rPr>
              <a:t>α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 * A * C * Vdd</a:t>
            </a:r>
            <a:r>
              <a:rPr b="0" lang="en-US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Vdd via Level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benefit: 31.08mW to 23.99mW (2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457200" y="495288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ign Metric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orst-case propogation delay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.67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case: Adding 0x7FFF and 0x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power consumption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3.99m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case: A alternating between 0xAAAA and 0x5555 every cycle, B constant at 0xAA55, measured over 8 total clock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calculated area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1,652µ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case: Addition of all transistor wid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 Metric Calculation: (9.67ns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(11,652µm) * (23.99mW) 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6139 *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01:25:43Z</dcterms:created>
  <dc:creator>ITC Labs and Classrooms</dc:creator>
  <dc:description/>
  <dc:language>en-US</dc:language>
  <cp:lastModifiedBy>Ben Combs</cp:lastModifiedBy>
  <dcterms:modified xsi:type="dcterms:W3CDTF">2008-04-29T16:18:40Z</dcterms:modified>
  <cp:revision>20</cp:revision>
  <dc:subject/>
  <dc:title>PICo Design Project</dc:title>
</cp:coreProperties>
</file>